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38E-8ED8-40E6-8A1B-7CE7164B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91D-3C4E-4CC5-9FF7-2218B446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079-14A6-4564-8F39-0446C54F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7B2-96DC-4D16-BF52-64D23A09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B02-9179-4447-BBE3-6DF0B963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0B2-A5F4-4A61-819E-033D0D9D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F18-6EE1-4AFB-A116-CAC3CF53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DE8-F0F6-44B1-BAC6-FB7F046E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9FF-E776-4DD0-86D4-BE01BE8F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BB4-5BFD-40AF-B46D-46231C32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F5E-55CF-4546-B534-3DFC7933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9DE-89EA-4493-A205-48691751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48DB-8541-4921-B852-6371E52ED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3:49:59Z</dcterms:created>
  <dc:creator>Educator</dc:creator>
  <dc:description/>
  <dc:language>en-US</dc:language>
  <cp:lastModifiedBy>Educator</cp:lastModifiedBy>
  <dcterms:modified xsi:type="dcterms:W3CDTF">2007-08-08T04:06:30Z</dcterms:modified>
  <cp:revision>2</cp:revision>
  <dc:subject/>
  <dc:title>Slide 1</dc:title>
</cp:coreProperties>
</file>